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95603-90A5-49AC-90DD-9113090C0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93DFA-E816-4BA5-B186-E9EDD482C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369C8-9C9C-46C2-91D8-84CE4AB88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4352C-959D-4555-89A8-8C3EC4A23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DA8DB-4DA7-469A-A6E7-30405DCDE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77D23-73B2-4925-9277-3B2FAA069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EC184-96F4-4381-8174-75C6A1987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CDDC6-0CD3-44B2-861D-023A3AF8F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12C80-D4E8-48E7-92E9-C5A08ACBC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1F7DE-0A1F-41DF-B578-B3A37D5FD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21C52-91B0-4C56-8FF9-BA8B37E72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5E267-079B-4265-BAE4-6FEE775DB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A7266-34DC-42E9-A4FE-29CCAFC60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EB486-0654-40F5-A126-BCE0EC185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4AA1D-EC1B-4ED0-A488-C58492178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130AB-395B-4E3D-8469-1091FFDD2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FCCDF-9D05-4F70-A8F3-02B87B582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E42598-1B1E-440E-872E-6548A82D7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4D1A1-0AD4-4399-A15C-E406D2EC8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E7DB5-951E-49FB-BDB7-A1682F7A3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E48DB-6EF2-462A-A8F6-F9EABE93A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72A16-E5C7-4AC5-97DD-129069984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A1E44-2AA3-42BC-B0E0-6F854069E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58767-9CC3-442C-9B1A-0D0EDDEEBB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7C724-6160-4107-9450-D2FD39217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DEC32-6699-4145-BBBF-18A6237C4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987350-F25E-4547-B69D-3E82FB6E6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41C0D-890B-4B5F-8207-3426B650D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93C28C-2E44-4649-AFE2-C70687779A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F6B7F3-0A41-4D48-A6DC-0C27C36DCE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CEEE8C-BB7E-40B4-9C9C-0810C9EEBB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A5153-E65E-4222-AF67-58EA6D58B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E127A4-DD69-4522-ACC8-C073B5A30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76F07-5A8F-4B46-9962-E08139991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C94AD-AD0F-44D9-987C-D0385CC967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BE7A39-62A4-484F-B354-16121B78A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9D783-6DBF-4E43-B292-A1680676B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102F3-8019-4B6C-9FFB-286C0ABC7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B06E7-495B-40FB-8052-6C6E682B2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3F4F8-AEAF-41EC-8E6B-BCEAC9554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F6B9DF-A081-4B98-9F60-133BE4C31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EDAA7E-453D-48C2-9DCB-233CE37608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7F7F88-8A1D-4603-BC03-FDDCC746A4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1D5AD-4106-472C-9F27-5E1E1746C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90E3F-844B-4DC2-A470-CD86424F3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A7B4C-4AE5-4C08-86D8-B547F1649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12772-10BB-4AA9-99D1-C382FD81B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05A2-2354-4A09-A4E9-3989EA2A2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EA50-45B6-4709-815F-8A7BD03A2F1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EB3E-5CCB-4969-94EC-2F34CAF06C7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C053-A632-4C89-BE27-112BFD964BA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57C2-4C22-42F0-AA3C-E25B3835EFB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мет: Енглески језик</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авач: Душица Лазић</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Make a list of all words that can be used to describe the following:</a:t>
            </a:r>
            <a:endParaRPr b="0" lang="en-US" sz="2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ru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de effec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cil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actic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earch</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par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s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e into English:</a:t>
            </a:r>
            <a:endParaRPr b="0" lang="en-US" sz="28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nstantia"/>
              </a:rPr>
              <a:t>Појава првих зуба представља велику радост за родитеље, али са собом понекад доноси и велике проблеме. Код одређеног броја деце до 3 године веома брзо се јавља изузетно агресивно обољење, стручно означено као циркуларни каријес. Родитељи често и не примете прве знаке – појаву белих кредастих мрља у врату горњих секутића. Те мрље су знаци прогресивног и узнапредовалог топљења глеђи зуба. Како оваква глеђ постаје порозна, у њу се таложе браонкасте и црне пигментне материје из пљувачке, хране и бактерија и затим долази до њеног пуцања и појаве рупица (кавитета). Разарања се шире кружно око врата зуба, па отуда и назив циркуларни каријес.</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aedodontics</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gn="just">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ea typeface="Times New Roman"/>
              </a:rPr>
              <a:t>         </a:t>
            </a:r>
            <a:endParaRPr b="0" lang="en-US" sz="900" spc="-1" strike="noStrike">
              <a:solidFill>
                <a:srgbClr val="000000"/>
              </a:solidFill>
              <a:latin typeface="Constantia"/>
            </a:endParaRPr>
          </a:p>
          <a:p>
            <a:pPr marL="270000" indent="-2700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Paedodontics  is  the branch of dentistry concerned with the detection, prevention and treatment of oral and dental diseases and abnormalities in children. The deciduous or primary teeth are very small and have shapes which differ from those of adult teeth; special procedures and materials are required for their conservation and restoration. Until recently pediatric dentistry involved treating children for their first dental visit at age three. The reason for the delay of treatment was not the absence of caries but the lack of child’s cooperation. Today there is a new direction in treating children’s dental needs. It is not waited till the problem appears but instead it is being tried to prevent the dental disease. It must be remembered that caries destruction (nursing caries or baby-bottle caries are now known as early childhood caries ECC) in a three-year old is initiated well before this age. Habits such as healthy dietary choices and preventive behaviors are established early in life. Therefore, efforts to prevent dental disease must begin during infancy.</a:t>
            </a:r>
            <a:endParaRPr b="0" lang="en-US" sz="2000" spc="-1" strike="noStrike">
              <a:solidFill>
                <a:srgbClr val="000000"/>
              </a:solidFill>
              <a:latin typeface="Constantia"/>
            </a:endParaRPr>
          </a:p>
          <a:p>
            <a:pPr marL="270000" indent="-2700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rPr>
              <a:t> </a:t>
            </a:r>
            <a:r>
              <a:rPr b="0" lang="en-US" sz="2000" spc="-1" strike="noStrike">
                <a:solidFill>
                  <a:srgbClr val="000000"/>
                </a:solidFill>
                <a:latin typeface="Constantia"/>
              </a:rPr>
              <a:t>The rest of the lesson can be found in the textbook “English in Dentistry” by Natasa Milosavljevi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ciduou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eft pal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ul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opharynx</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verjet/bi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oss-bi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owd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yperdontia</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MPORTANCE OF PAEDODONTICS</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ARLY DENTAL INTERVENTIO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LINICAL INSPECTION OF ORAL STRUCTURES</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TRAORAL AND INTRAORAL EXAMINATIO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ive the nouns corresponding to the following adjectives:</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onsib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irculator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ugh</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inuou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par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er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lub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mfu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hoose the correct word:</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meeting was really__________. (disappointed/disappoin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__________ for us to ask people about their private lives. (embarrassed/embarrass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 looks so ___________. Has he been working all day? (exhausted/exhaus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lecture was very ___________. Many students fell asleep. (bored/bor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 was really ___________ when they offered me a job in this company. (amazed/amazing)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hoose the correct word:</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is no need to get __________ about that trip. (excited/exci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as __________ news for her. (shocked/shock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r explanation was ____________. We didn’t understand you. (confused/confus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A/AN or THE where necessary: </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wasn’t her fault. It was _____ accid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 heart pumps ______ blood throughout ______ bod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e didn’t feel well yesterday. She had _______ pain in her back.</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 sister has had one of ______ negative drug side effec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 injured were taken to _______hospit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Complete the sentences given below with the following modal verbs:</a:t>
            </a:r>
            <a:br>
              <a:rPr sz="2400"/>
            </a:br>
            <a:r>
              <a:rPr b="0" lang="en-US" sz="2400" spc="-1" strike="noStrike">
                <a:solidFill>
                  <a:srgbClr val="04617b"/>
                </a:solidFill>
                <a:latin typeface="Calibri"/>
              </a:rPr>
              <a:t>can, could, must, may, might, should, ought to, need</a:t>
            </a:r>
            <a:endParaRPr b="0" lang="en-US" sz="24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 asked if he ________ come to my office at 2 o’cloc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 I put these books here? Yes, you _______</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e _______see her doctor. She doesn’t feel well.</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believed that he ________not do such a terrible thing.</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 I leave now? No, you ________.</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 _______ not go to the pharmacy today. I _______ do that tomorrow.</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think you _______ apologize for what you have said.</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 knows that he _________ mention his nam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8T21:09:23Z</dcterms:modified>
  <cp:revision>27</cp:revision>
  <dc:subject/>
  <dc:title>Slide 1</dc:title>
</cp:coreProperties>
</file>